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68F-76BF-4C33-97B5-3FF48A4A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32B-ACB2-4C9F-817A-DC8A930A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6BEA-310E-4CC2-BEF1-F3E1A9FF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5FC-F5D5-4A7D-B582-05A8415E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D91-39E7-4E49-AD61-109B0E4B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4F6-F293-4FEF-BD19-70FBFE0E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EB8-4602-4744-8F8D-34A21138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AAF2-9C26-4BE3-87EC-4C6846BF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828-64CE-4B9E-921B-F4273D2E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17B1-932F-4E82-B48A-37A44299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E541-3C3E-4266-997E-9DF8DB12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EEB6-119B-4778-B8A7-CA62E2C1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A33A-DAB3-475D-8B16-CC5A7AA115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 and worse is b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dapt to the user’s environment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429264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dapt to the user’s environment (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u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12T18:03:51Z</dcterms:modified>
  <cp:revision>18</cp:revision>
  <dc:subject/>
  <dc:title>Slf4j &amp; logback projects</dc:title>
</cp:coreProperties>
</file>